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9AC4-C2CC-478C-B956-E85BF77F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06A-CAE2-41E9-8C00-818357F2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A87-ACD2-485D-B3EA-B53778CC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27E-C91C-4F8A-96F3-9C5550D0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91C-0B5D-4034-B126-EFCC3D09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7F84-1713-4C57-8A1D-40143133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C942-BB6E-4336-B962-0C402912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07B-8CD2-44CC-8F3E-398BAA9A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E3A-827B-4E25-9F52-6D8CC553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71B-221C-4998-A193-5A7ADD7E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FF0-EC2C-4FAB-8712-6DBE674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C76-3A56-46C7-BFD7-EBB7D38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C09C-F350-460C-8AFF-8933E9FC7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8-29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4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3 году (часть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712800"/>
          <a:ext cx="8785440" cy="591012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2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7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3 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9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Арктики и Субантарк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73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 04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59640" cy="53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в выполнении НИР в 201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44680" y="847800"/>
            <a:ext cx="4735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 2013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692280"/>
          <a:ext cx="7991280" cy="5775120"/>
        </p:xfrm>
        <a:graphic>
          <a:graphicData uri="http://schemas.openxmlformats.org/drawingml/2006/table">
            <a:tbl>
              <a:tblPr/>
              <a:tblGrid>
                <a:gridCol w="6264000"/>
                <a:gridCol w="1727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астие сотрудников РГГМУ в симпозиумах, конференциях, семинарах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       - международные конферен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сероссийские конферен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региональные и прочие конферен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тьи   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: - в зарубежных изд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татьи в ведущих рецензируемых изданиях, входящих в перечень ВА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статьи в сборниках и других издан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явки на объекты промышлен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обрет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олезные мод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атенты Росс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идетельства  о государственной регистрации Роспатент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рограмм ЭВ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баз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астие в выставк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том числе международ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емии, дипломы, награ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99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езультативность научных исследований факультетов РГГ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600200"/>
          <a:ext cx="8713800" cy="3844800"/>
        </p:xfrm>
        <a:graphic>
          <a:graphicData uri="http://schemas.openxmlformats.org/drawingml/2006/table">
            <a:tbl>
              <a:tblPr/>
              <a:tblGrid>
                <a:gridCol w="2016360"/>
                <a:gridCol w="1008000"/>
                <a:gridCol w="936720"/>
                <a:gridCol w="1368360"/>
                <a:gridCol w="1368360"/>
                <a:gridCol w="770040"/>
                <a:gridCol w="1245960"/>
              </a:tblGrid>
              <a:tr h="315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ивность научных исследова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 в зарубежных изданиях и ведущих журналах  перечня ВА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явки на объекты промышленной собственност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те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детельства о государственной регистрации Роспатентом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 и ФП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 и СГ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 и Г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ленарное заседание</a:t>
            </a:r>
            <a:br>
              <a:rPr sz="1400"/>
            </a:b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8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14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1062000"/>
            <a:ext cx="5925960" cy="5362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3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Основные научные направления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765000"/>
          <a:ext cx="6983280" cy="57610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520" y="289080"/>
            <a:ext cx="8138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3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341360"/>
          <a:ext cx="8785080" cy="518184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9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44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Субъектов Федерации,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 учетом грантов и субсидий студентов, аспирантов, молодых ученых и молодых кандидатов нау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77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5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еминары, конференции. совещ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ранты Р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5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ждународные прое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7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5 04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39640" y="333360"/>
          <a:ext cx="8226360" cy="57456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Государственного задания, ФЦП в 2013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961920" y="1371600"/>
          <a:ext cx="7448760" cy="55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1600"/>
                    <a:ext cx="744876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Распределение тем НИР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в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24000" y="593640"/>
          <a:ext cx="8353440" cy="6176880"/>
        </p:xfrm>
        <a:graphic>
          <a:graphicData uri="http://schemas.openxmlformats.org/drawingml/2006/table">
            <a:tbl>
              <a:tblPr/>
              <a:tblGrid>
                <a:gridCol w="3539880"/>
                <a:gridCol w="1789200"/>
                <a:gridCol w="302436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00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9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6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0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0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3 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 инстит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Арктики и Субантар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73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 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6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ведения по НИР за 2013 год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95280" y="692280"/>
          <a:ext cx="8244000" cy="5900760"/>
        </p:xfrm>
        <a:graphic>
          <a:graphicData uri="http://schemas.openxmlformats.org/drawingml/2006/table">
            <a:tbl>
              <a:tblPr/>
              <a:tblGrid>
                <a:gridCol w="1469880"/>
                <a:gridCol w="357480"/>
                <a:gridCol w="646560"/>
                <a:gridCol w="286200"/>
                <a:gridCol w="520200"/>
                <a:gridCol w="284760"/>
                <a:gridCol w="558360"/>
                <a:gridCol w="240480"/>
                <a:gridCol w="584640"/>
                <a:gridCol w="144000"/>
                <a:gridCol w="501120"/>
                <a:gridCol w="144000"/>
                <a:gridCol w="466560"/>
                <a:gridCol w="249840"/>
                <a:gridCol w="573840"/>
                <a:gridCol w="429840"/>
                <a:gridCol w="786240"/>
              </a:tblGrid>
              <a:tr h="85536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6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0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00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6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94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4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3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966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3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8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803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2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40,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х систем и гео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04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87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1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41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0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2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3 263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нститут Арктики и Субантарк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18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 876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453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международных связ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738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5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785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4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95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72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79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55 0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569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3 году (часть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9280" y="1197000"/>
          <a:ext cx="8785440" cy="525924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42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 638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7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7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технологий и систем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ских измеритель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шей математики и теоретической меха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User</cp:lastModifiedBy>
  <dcterms:modified xsi:type="dcterms:W3CDTF">2014-02-04T05:12:20Z</dcterms:modified>
  <cp:revision>689</cp:revision>
  <dc:subject/>
  <dc:title>Итоговая сессия Ученого совета РГГМУ</dc:title>
</cp:coreProperties>
</file>